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B45-68EB-4F63-BD33-C4F1CCFC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4A7-4DDE-4B2E-8A13-529718C3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BCA-9467-4F89-ABFF-8DB5ED82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870-A811-43B4-A9B9-EED7DBE8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685-CE57-453B-91C9-1C380092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264-8E92-4C46-9267-E2CCCD5B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ACC-BD0F-4D1E-8B28-74F92E0F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B2D7-FF7C-42D8-9486-4019BDED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661-A5F0-4E78-9818-3EE8C4E4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C12-D1D2-4468-A04A-5BB5575E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157-77AF-4CE6-892A-4DEDB540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C1C-306C-461A-9F02-B3027855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8A8B-5D90-41F4-84AD-35DC17379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irst_Battle_of_Bull_Run" TargetMode="External"/><Relationship Id="rId3" Type="http://schemas.openxmlformats.org/officeDocument/2006/relationships/hyperlink" Target="http://www.sonofthesouth.net/leefoundation/battle-bull-run.htm" TargetMode="External"/><Relationship Id="rId4" Type="http://schemas.openxmlformats.org/officeDocument/2006/relationships/hyperlink" Target="http://www.historycentral.com/CivilWar/bullrun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Battle of Bull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Lena and La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ght July 21,18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 Fairfax County and Prince William County in Virgi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son got the nickname of Stone wall because he was standing his ground like a stone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ttle was named after the small stream Bull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lso called the battle of Manas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battle of the 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fferent s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d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y size was 32,000-34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ers were Joseph E. Johnson and P.G.T. Beaureg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y size was 28,000-3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vin McDowell was the Comma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 casualties 2,8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derate casualties 1,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ederate army won The First Battle of Bu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43200" y="4038480"/>
            <a:ext cx="3171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ttle of bu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irst Battle of Bu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Battle of Bull Run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Battle of Bull Run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 Run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erican Nation: Davidson, Castillo, and S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1:07:35Z</dcterms:created>
  <dc:creator>214021</dc:creator>
  <dc:description/>
  <dc:language>en-US</dc:language>
  <cp:lastModifiedBy>214021</cp:lastModifiedBy>
  <dcterms:modified xsi:type="dcterms:W3CDTF">2010-01-12T20:36:53Z</dcterms:modified>
  <cp:revision>4</cp:revision>
  <dc:subject/>
  <dc:title>The Battle of Bull Run One</dc:title>
</cp:coreProperties>
</file>